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"/>
          <p:cNvGrpSpPr/>
          <p:nvPr/>
        </p:nvGrpSpPr>
        <p:grpSpPr>
          <a:xfrm>
            <a:off x="1371600" y="2195640"/>
            <a:ext cx="7020000" cy="1719000"/>
            <a:chOff x="1371600" y="2195640"/>
            <a:chExt cx="7020000" cy="1719000"/>
          </a:xfrm>
        </p:grpSpPr>
        <p:sp>
          <p:nvSpPr>
            <p:cNvPr id="37" name=""/>
            <p:cNvSpPr/>
            <p:nvPr/>
          </p:nvSpPr>
          <p:spPr>
            <a:xfrm>
              <a:off x="1968480" y="2400480"/>
              <a:ext cx="723960" cy="3808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371600" y="2195640"/>
              <a:ext cx="7020000" cy="17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lop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of a nonvertical line is the number of unit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line rises or falls for each unit of horizontal chan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left to righ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" name=""/>
          <p:cNvGrpSpPr/>
          <p:nvPr/>
        </p:nvGrpSpPr>
        <p:grpSpPr>
          <a:xfrm>
            <a:off x="195120" y="203040"/>
            <a:ext cx="4911480" cy="446400"/>
            <a:chOff x="195120" y="203040"/>
            <a:chExt cx="4911480" cy="446400"/>
          </a:xfrm>
        </p:grpSpPr>
        <p:pic>
          <p:nvPicPr>
            <p:cNvPr id="40" name="" descr=""/>
            <p:cNvPicPr/>
            <p:nvPr/>
          </p:nvPicPr>
          <p:blipFill>
            <a:blip r:embed="rId1"/>
            <a:stretch/>
          </p:blipFill>
          <p:spPr>
            <a:xfrm>
              <a:off x="195120" y="20304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1346040" y="237960"/>
              <a:ext cx="376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DING TH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PE OF 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L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" name=""/>
          <p:cNvSpPr/>
          <p:nvPr/>
        </p:nvSpPr>
        <p:spPr>
          <a:xfrm>
            <a:off x="1460520" y="6224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5981760" y="6324480"/>
            <a:ext cx="96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617868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3632040"/>
            <a:ext cx="3365640" cy="800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2760" y="3594240"/>
            <a:ext cx="364464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2440" y="2235240"/>
            <a:ext cx="3378240" cy="1333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2440" y="2311560"/>
            <a:ext cx="3378240" cy="13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30680" y="5052960"/>
            <a:ext cx="804960" cy="1030320"/>
          </a:xfrm>
          <a:prstGeom prst="irregularSeal1">
            <a:avLst/>
          </a:prstGeom>
          <a:gradFill rotWithShape="0">
            <a:gsLst>
              <a:gs pos="0">
                <a:srgbClr val="fefee7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2440" y="990720"/>
            <a:ext cx="3390840" cy="1244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317840" y="1017720"/>
            <a:ext cx="3965400" cy="3930480"/>
            <a:chOff x="4317840" y="1017720"/>
            <a:chExt cx="3965400" cy="3930480"/>
          </a:xfrm>
        </p:grpSpPr>
        <p:grpSp>
          <p:nvGrpSpPr>
            <p:cNvPr id="53" name=""/>
            <p:cNvGrpSpPr/>
            <p:nvPr/>
          </p:nvGrpSpPr>
          <p:grpSpPr>
            <a:xfrm>
              <a:off x="4317840" y="1041480"/>
              <a:ext cx="3965400" cy="3906720"/>
              <a:chOff x="4317840" y="1041480"/>
              <a:chExt cx="3965400" cy="3906720"/>
            </a:xfrm>
          </p:grpSpPr>
          <p:sp>
            <p:nvSpPr>
              <p:cNvPr id="54" name=""/>
              <p:cNvSpPr/>
              <p:nvPr/>
            </p:nvSpPr>
            <p:spPr>
              <a:xfrm>
                <a:off x="4317840" y="1054080"/>
                <a:ext cx="3965400" cy="388620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" name=""/>
              <p:cNvGrpSpPr/>
              <p:nvPr/>
            </p:nvGrpSpPr>
            <p:grpSpPr>
              <a:xfrm>
                <a:off x="4660920" y="1041480"/>
                <a:ext cx="3298680" cy="3906720"/>
                <a:chOff x="4660920" y="1041480"/>
                <a:chExt cx="3298680" cy="390672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4660920" y="1047960"/>
                  <a:ext cx="0" cy="38876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4987800" y="1041480"/>
                  <a:ext cx="0" cy="388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286320" y="1046160"/>
                  <a:ext cx="0" cy="388800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6954840" y="1046160"/>
                  <a:ext cx="0" cy="388800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5317920" y="1054080"/>
                  <a:ext cx="0" cy="388800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6615000" y="1047960"/>
                  <a:ext cx="0" cy="38876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638680" y="1041480"/>
                  <a:ext cx="0" cy="38876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7288200" y="1044720"/>
                  <a:ext cx="0" cy="38876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959440" y="1044720"/>
                  <a:ext cx="0" cy="38876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632720" y="1051200"/>
                  <a:ext cx="0" cy="38876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959600" y="1060560"/>
                  <a:ext cx="0" cy="38876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347720" y="1354320"/>
                <a:ext cx="3906720" cy="3298680"/>
                <a:chOff x="4347720" y="1354320"/>
                <a:chExt cx="3906720" cy="3298680"/>
              </a:xfrm>
            </p:grpSpPr>
            <p:sp>
              <p:nvSpPr>
                <p:cNvPr id="68" name=""/>
                <p:cNvSpPr/>
                <p:nvPr/>
              </p:nvSpPr>
              <p:spPr>
                <a:xfrm flipH="1">
                  <a:off x="4360320" y="1354320"/>
                  <a:ext cx="388764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H="1">
                  <a:off x="4366800" y="1681200"/>
                  <a:ext cx="388764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H="1">
                  <a:off x="4362120" y="2979720"/>
                  <a:ext cx="388800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H="1">
                  <a:off x="4362120" y="3648240"/>
                  <a:ext cx="388800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 flipH="1">
                  <a:off x="4354200" y="2011320"/>
                  <a:ext cx="388800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H="1">
                  <a:off x="4360320" y="3308400"/>
                  <a:ext cx="388764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H="1">
                  <a:off x="4366800" y="2332080"/>
                  <a:ext cx="388764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H="1">
                  <a:off x="4363560" y="3981600"/>
                  <a:ext cx="388764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H="1">
                  <a:off x="4363560" y="2652840"/>
                  <a:ext cx="388764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H="1">
                  <a:off x="4357440" y="4326120"/>
                  <a:ext cx="3888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H="1">
                  <a:off x="4347720" y="4653000"/>
                  <a:ext cx="388764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" name=""/>
            <p:cNvSpPr/>
            <p:nvPr/>
          </p:nvSpPr>
          <p:spPr>
            <a:xfrm>
              <a:off x="8022960" y="4321440"/>
              <a:ext cx="22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51520" y="10177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32880" y="4310280"/>
              <a:ext cx="288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            3             5             7             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10600" y="44481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18640" y="4283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14840" y="1278000"/>
              <a:ext cx="361800" cy="29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757080" y="3733920"/>
            <a:ext cx="33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points on a line are all that is needed to find its slop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65800" y="5319720"/>
            <a:ext cx="10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p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22440" y="533412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897360" y="5153040"/>
            <a:ext cx="1589040" cy="650160"/>
            <a:chOff x="3897360" y="5153040"/>
            <a:chExt cx="1589040" cy="650160"/>
          </a:xfrm>
        </p:grpSpPr>
        <p:grpSp>
          <p:nvGrpSpPr>
            <p:cNvPr id="89" name=""/>
            <p:cNvGrpSpPr/>
            <p:nvPr/>
          </p:nvGrpSpPr>
          <p:grpSpPr>
            <a:xfrm>
              <a:off x="3897360" y="5153040"/>
              <a:ext cx="1589040" cy="650160"/>
              <a:chOff x="3897360" y="5153040"/>
              <a:chExt cx="1589040" cy="650160"/>
            </a:xfrm>
          </p:grpSpPr>
          <p:sp>
            <p:nvSpPr>
              <p:cNvPr id="90" name=""/>
              <p:cNvSpPr/>
              <p:nvPr/>
            </p:nvSpPr>
            <p:spPr>
              <a:xfrm>
                <a:off x="3897360" y="5153040"/>
                <a:ext cx="158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 - 2          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03240" y="53434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3931920" y="5540400"/>
              <a:ext cx="51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76560" y="5540400"/>
              <a:ext cx="32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897720" y="554976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- 0      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95120" y="203040"/>
            <a:ext cx="4911480" cy="446400"/>
            <a:chOff x="195120" y="203040"/>
            <a:chExt cx="4911480" cy="44640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195120" y="20304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346040" y="237960"/>
              <a:ext cx="376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DING TH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PE OF 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L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460520" y="6224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4280" y="901800"/>
            <a:ext cx="3492360" cy="140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47640" y="2309760"/>
            <a:ext cx="3403800" cy="1106640"/>
            <a:chOff x="647640" y="2309760"/>
            <a:chExt cx="3403800" cy="1106640"/>
          </a:xfrm>
        </p:grpSpPr>
        <p:sp>
          <p:nvSpPr>
            <p:cNvPr id="101" name=""/>
            <p:cNvSpPr/>
            <p:nvPr/>
          </p:nvSpPr>
          <p:spPr>
            <a:xfrm>
              <a:off x="647640" y="2309760"/>
              <a:ext cx="3403800" cy="10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slanted line at the right ris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units for each 2 units of horizon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from left to right. So,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lop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the line 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17760" y="3106800"/>
              <a:ext cx="2286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708480" y="1030320"/>
            <a:ext cx="3061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lo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f a nonvertical line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number of units the line rises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lls for each unit of horizont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from left to righ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93840" y="1033200"/>
            <a:ext cx="4527720" cy="3608280"/>
            <a:chOff x="2193840" y="1033200"/>
            <a:chExt cx="4527720" cy="3608280"/>
          </a:xfrm>
        </p:grpSpPr>
        <p:sp>
          <p:nvSpPr>
            <p:cNvPr id="105" name=""/>
            <p:cNvSpPr/>
            <p:nvPr/>
          </p:nvSpPr>
          <p:spPr>
            <a:xfrm flipV="1">
              <a:off x="4349880" y="1033200"/>
              <a:ext cx="2371680" cy="360828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93840" y="1095480"/>
              <a:ext cx="1284480" cy="2206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onvertical 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603760" y="2585880"/>
            <a:ext cx="743040" cy="265320"/>
            <a:chOff x="5603760" y="2585880"/>
            <a:chExt cx="743040" cy="265320"/>
          </a:xfrm>
        </p:grpSpPr>
        <p:sp>
          <p:nvSpPr>
            <p:cNvPr id="108" name=""/>
            <p:cNvSpPr/>
            <p:nvPr/>
          </p:nvSpPr>
          <p:spPr>
            <a:xfrm>
              <a:off x="5862600" y="2585880"/>
              <a:ext cx="484200" cy="26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(2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03760" y="2602080"/>
              <a:ext cx="100080" cy="99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818080" y="2658960"/>
            <a:ext cx="5136840" cy="2910960"/>
            <a:chOff x="2818080" y="2658960"/>
            <a:chExt cx="5136840" cy="2910960"/>
          </a:xfrm>
        </p:grpSpPr>
        <p:grpSp>
          <p:nvGrpSpPr>
            <p:cNvPr id="111" name=""/>
            <p:cNvGrpSpPr/>
            <p:nvPr/>
          </p:nvGrpSpPr>
          <p:grpSpPr>
            <a:xfrm>
              <a:off x="5651640" y="2658960"/>
              <a:ext cx="2303280" cy="990720"/>
              <a:chOff x="5651640" y="2658960"/>
              <a:chExt cx="2303280" cy="990720"/>
            </a:xfrm>
          </p:grpSpPr>
          <p:sp>
            <p:nvSpPr>
              <p:cNvPr id="112" name=""/>
              <p:cNvSpPr/>
              <p:nvPr/>
            </p:nvSpPr>
            <p:spPr>
              <a:xfrm flipV="1">
                <a:off x="5651640" y="2658960"/>
                <a:ext cx="0" cy="990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033960" y="3114720"/>
                <a:ext cx="1920960" cy="325440"/>
              </a:xfrm>
              <a:prstGeom prst="wedgeRectCallout">
                <a:avLst>
                  <a:gd name="adj1" fmla="val -66861"/>
                  <a:gd name="adj2" fmla="val -64634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63504" dir="761609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rise = 5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 2 = 3 uni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818080" y="5110200"/>
              <a:ext cx="622800" cy="459720"/>
              <a:chOff x="2818080" y="5110200"/>
              <a:chExt cx="622800" cy="459720"/>
            </a:xfrm>
          </p:grpSpPr>
          <p:sp>
            <p:nvSpPr>
              <p:cNvPr id="115" name=""/>
              <p:cNvSpPr/>
              <p:nvPr/>
            </p:nvSpPr>
            <p:spPr>
              <a:xfrm>
                <a:off x="2818080" y="5110200"/>
                <a:ext cx="62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i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913120" y="5538960"/>
                <a:ext cx="41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836800" y="3665520"/>
            <a:ext cx="5245200" cy="2291760"/>
            <a:chOff x="2836800" y="3665520"/>
            <a:chExt cx="5245200" cy="2291760"/>
          </a:xfrm>
        </p:grpSpPr>
        <p:sp>
          <p:nvSpPr>
            <p:cNvPr id="118" name=""/>
            <p:cNvSpPr/>
            <p:nvPr/>
          </p:nvSpPr>
          <p:spPr>
            <a:xfrm>
              <a:off x="2836800" y="549756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0760" y="3665520"/>
              <a:ext cx="65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61040" y="3844800"/>
              <a:ext cx="1920960" cy="325440"/>
            </a:xfrm>
            <a:prstGeom prst="wedgeRectCallout">
              <a:avLst>
                <a:gd name="adj1" fmla="val -97518"/>
                <a:gd name="adj2" fmla="val -8805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run = 2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-</a:t>
              </a: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 0 = 2 un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5981760" y="6324480"/>
            <a:ext cx="96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343400" y="3583080"/>
            <a:ext cx="706320" cy="225360"/>
            <a:chOff x="4343400" y="3583080"/>
            <a:chExt cx="706320" cy="225360"/>
          </a:xfrm>
        </p:grpSpPr>
        <p:sp>
          <p:nvSpPr>
            <p:cNvPr id="123" name=""/>
            <p:cNvSpPr/>
            <p:nvPr/>
          </p:nvSpPr>
          <p:spPr>
            <a:xfrm>
              <a:off x="4343400" y="3583080"/>
              <a:ext cx="48420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(0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50000" y="3621240"/>
              <a:ext cx="99720" cy="99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617868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151600" y="5065560"/>
            <a:ext cx="1236600" cy="1030320"/>
          </a:xfrm>
          <a:prstGeom prst="irregularSeal1">
            <a:avLst/>
          </a:prstGeom>
          <a:gradFill rotWithShape="0">
            <a:gsLst>
              <a:gs pos="0">
                <a:srgbClr val="fefee7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9800" y="965160"/>
            <a:ext cx="3403800" cy="1130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9800" y="876240"/>
            <a:ext cx="35560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151160" y="941400"/>
            <a:ext cx="3965400" cy="3922560"/>
            <a:chOff x="4151160" y="941400"/>
            <a:chExt cx="3965400" cy="3922560"/>
          </a:xfrm>
        </p:grpSpPr>
        <p:sp>
          <p:nvSpPr>
            <p:cNvPr id="130" name=""/>
            <p:cNvSpPr/>
            <p:nvPr/>
          </p:nvSpPr>
          <p:spPr>
            <a:xfrm>
              <a:off x="4151160" y="977760"/>
              <a:ext cx="3965400" cy="38862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21120" y="965160"/>
              <a:ext cx="0" cy="388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4190760" y="4249800"/>
              <a:ext cx="388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56280" y="4245120"/>
              <a:ext cx="22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84840" y="9414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 flipV="1">
            <a:off x="4168800" y="2504880"/>
            <a:ext cx="3963960" cy="1099800"/>
          </a:xfrm>
          <a:prstGeom prst="line">
            <a:avLst/>
          </a:prstGeom>
          <a:ln w="28440">
            <a:solidFill>
              <a:srgbClr val="00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57400" y="3130560"/>
            <a:ext cx="4529160" cy="2736720"/>
            <a:chOff x="2957400" y="3130560"/>
            <a:chExt cx="4529160" cy="2736720"/>
          </a:xfrm>
        </p:grpSpPr>
        <p:sp>
          <p:nvSpPr>
            <p:cNvPr id="137" name=""/>
            <p:cNvSpPr/>
            <p:nvPr/>
          </p:nvSpPr>
          <p:spPr>
            <a:xfrm>
              <a:off x="2957400" y="5499000"/>
              <a:ext cx="21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run        change in </a:t>
              </a:r>
              <a:r>
                <a:rPr b="1" i="1" lang="en-US" sz="1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86360" y="3130560"/>
              <a:ext cx="1600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78080" y="996840"/>
            <a:ext cx="34509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lop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of the nonvertical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ing through the point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6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6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6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6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8120" y="3166920"/>
            <a:ext cx="2255400" cy="6426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1800" spc="-1" strike="noStrike" baseline="-6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s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ub on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en-US" sz="1800" spc="-1" strike="noStrike" baseline="-6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s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ub on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56040" y="5275440"/>
            <a:ext cx="7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5330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36240" y="1316160"/>
            <a:ext cx="2943720" cy="1865160"/>
            <a:chOff x="3036240" y="1316160"/>
            <a:chExt cx="2943720" cy="1865160"/>
          </a:xfrm>
        </p:grpSpPr>
        <p:sp>
          <p:nvSpPr>
            <p:cNvPr id="144" name=""/>
            <p:cNvSpPr/>
            <p:nvPr/>
          </p:nvSpPr>
          <p:spPr>
            <a:xfrm>
              <a:off x="5837400" y="3087720"/>
              <a:ext cx="9360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3036240" y="1316160"/>
              <a:ext cx="2943720" cy="1811520"/>
              <a:chOff x="3036240" y="1316160"/>
              <a:chExt cx="2943720" cy="1811520"/>
            </a:xfrm>
          </p:grpSpPr>
          <p:sp>
            <p:nvSpPr>
              <p:cNvPr id="146" name=""/>
              <p:cNvSpPr/>
              <p:nvPr/>
            </p:nvSpPr>
            <p:spPr>
              <a:xfrm>
                <a:off x="3036240" y="1316160"/>
                <a:ext cx="673920" cy="3052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x</a:t>
                </a:r>
                <a:r>
                  <a:rPr b="0" lang="en-US" sz="2000" spc="-1" strike="noStrike" baseline="-6000">
                    <a:solidFill>
                      <a:srgbClr val="0000ff"/>
                    </a:solidFill>
                    <a:latin typeface="Times New Roman"/>
                  </a:rPr>
                  <a:t>1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,</a:t>
                </a:r>
                <a:r>
                  <a:rPr b="0" lang="en-US" sz="2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i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0" lang="en-US" sz="2000" spc="-1" strike="noStrike" baseline="-6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126040" y="2728800"/>
                <a:ext cx="85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x</a:t>
                </a:r>
                <a:r>
                  <a:rPr b="0" lang="en-US" sz="2000" spc="-1" strike="noStrike" baseline="-6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r>
                  <a:rPr b="0" lang="en-US" sz="2000" spc="-1" strike="noStrike">
                    <a:solidFill>
                      <a:srgbClr val="3333cc"/>
                    </a:solidFill>
                    <a:latin typeface="Times New Roman"/>
                  </a:rPr>
                  <a:t>, </a:t>
                </a:r>
                <a:r>
                  <a:rPr b="0" i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0" lang="en-US" sz="2000" spc="-1" strike="noStrike" baseline="-6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1021680" y="1627200"/>
            <a:ext cx="6491880" cy="1113120"/>
            <a:chOff x="1021680" y="1627200"/>
            <a:chExt cx="6491880" cy="1113120"/>
          </a:xfrm>
        </p:grpSpPr>
        <p:sp>
          <p:nvSpPr>
            <p:cNvPr id="149" name=""/>
            <p:cNvSpPr/>
            <p:nvPr/>
          </p:nvSpPr>
          <p:spPr>
            <a:xfrm>
              <a:off x="7419960" y="2629080"/>
              <a:ext cx="9360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00960" y="2341440"/>
              <a:ext cx="85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en-US" sz="2000" spc="-1" strike="noStrike" baseline="-6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0" lang="en-US" sz="2000" spc="-1" strike="noStrike" baseline="-6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21680" y="1627200"/>
              <a:ext cx="673920" cy="305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0" lang="en-US" sz="2000" spc="-1" strike="noStrike" baseline="-6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,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0" lang="en-US" sz="2000" spc="-1" strike="noStrike" baseline="-6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352840" y="2784600"/>
            <a:ext cx="3600720" cy="2864520"/>
            <a:chOff x="5352840" y="2784600"/>
            <a:chExt cx="3600720" cy="2864520"/>
          </a:xfrm>
        </p:grpSpPr>
        <p:grpSp>
          <p:nvGrpSpPr>
            <p:cNvPr id="153" name=""/>
            <p:cNvGrpSpPr/>
            <p:nvPr/>
          </p:nvGrpSpPr>
          <p:grpSpPr>
            <a:xfrm>
              <a:off x="5352840" y="5184720"/>
              <a:ext cx="830520" cy="464400"/>
              <a:chOff x="5352840" y="5184720"/>
              <a:chExt cx="830520" cy="464400"/>
            </a:xfrm>
          </p:grpSpPr>
          <p:sp>
            <p:nvSpPr>
              <p:cNvPr id="154" name=""/>
              <p:cNvSpPr/>
              <p:nvPr/>
            </p:nvSpPr>
            <p:spPr>
              <a:xfrm>
                <a:off x="5352840" y="5184720"/>
                <a:ext cx="83052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400" spc="-1" strike="noStrike" baseline="-10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400" spc="-1" strike="noStrike" baseline="-10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402160" y="5551560"/>
                <a:ext cx="68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7915320" y="2784600"/>
              <a:ext cx="1038240" cy="341280"/>
            </a:xfrm>
            <a:prstGeom prst="wedgeRectCallout">
              <a:avLst>
                <a:gd name="adj1" fmla="val -80888"/>
                <a:gd name="adj2" fmla="val -11861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  <a:effectLst>
              <a:outerShdw dist="63504" dir="76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0" lang="en-US" sz="2000" spc="-1" strike="noStrike" baseline="-6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 y</a:t>
              </a:r>
              <a:r>
                <a:rPr b="0" lang="en-US" sz="2000" spc="-1" strike="noStrike" baseline="-6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348880" y="3449520"/>
            <a:ext cx="2056680" cy="2426760"/>
            <a:chOff x="5348880" y="3449520"/>
            <a:chExt cx="2056680" cy="2426760"/>
          </a:xfrm>
        </p:grpSpPr>
        <p:sp>
          <p:nvSpPr>
            <p:cNvPr id="158" name=""/>
            <p:cNvSpPr/>
            <p:nvPr/>
          </p:nvSpPr>
          <p:spPr>
            <a:xfrm>
              <a:off x="5348880" y="5411880"/>
              <a:ext cx="86364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en-US" sz="2400" spc="-1" strike="noStrike" baseline="-10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en-US" sz="2400" spc="-1" strike="noStrike" baseline="-10000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91160" y="3449520"/>
              <a:ext cx="914400" cy="363600"/>
            </a:xfrm>
            <a:prstGeom prst="wedgeRectCallout">
              <a:avLst>
                <a:gd name="adj1" fmla="val -45486"/>
                <a:gd name="adj2" fmla="val -125981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  <a:effectLst>
              <a:outerShdw dist="63504" dir="76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0" lang="en-US" sz="2000" spc="-1" strike="noStrike" baseline="-6000">
                  <a:solidFill>
                    <a:srgbClr val="0000ff"/>
                  </a:solidFill>
                  <a:latin typeface="Times New Roman"/>
                </a:rPr>
                <a:t>2 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0" i="1" lang="en-US" sz="2000" spc="-1" strike="noStrike">
                  <a:solidFill>
                    <a:srgbClr val="0000ff"/>
                  </a:solidFill>
                  <a:latin typeface="Times New Roman"/>
                </a:rPr>
                <a:t> x</a:t>
              </a:r>
              <a:r>
                <a:rPr b="0" lang="en-US" sz="2000" spc="-1" strike="noStrike" baseline="-6000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95120" y="203040"/>
            <a:ext cx="4911480" cy="446400"/>
            <a:chOff x="195120" y="203040"/>
            <a:chExt cx="4911480" cy="44640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195120" y="20304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346040" y="237960"/>
              <a:ext cx="376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DING TH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PE OF 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L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460520" y="6224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021680" y="1316160"/>
            <a:ext cx="2688480" cy="616320"/>
            <a:chOff x="1021680" y="1316160"/>
            <a:chExt cx="2688480" cy="616320"/>
          </a:xfrm>
        </p:grpSpPr>
        <p:sp>
          <p:nvSpPr>
            <p:cNvPr id="165" name=""/>
            <p:cNvSpPr/>
            <p:nvPr/>
          </p:nvSpPr>
          <p:spPr>
            <a:xfrm>
              <a:off x="1021680" y="1627200"/>
              <a:ext cx="6739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0" lang="en-US" sz="2000" spc="-1" strike="noStrike" baseline="-6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,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0" lang="en-US" sz="2000" spc="-1" strike="noStrike" baseline="-6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36240" y="1316160"/>
              <a:ext cx="6739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0" lang="en-US" sz="2000" spc="-1" strike="noStrike" baseline="-6000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,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0" lang="en-US" sz="2000" spc="-1" strike="noStrike" baseline="-6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949840" y="2665440"/>
            <a:ext cx="4520880" cy="3120480"/>
            <a:chOff x="2949840" y="2665440"/>
            <a:chExt cx="4520880" cy="3120480"/>
          </a:xfrm>
        </p:grpSpPr>
        <p:grpSp>
          <p:nvGrpSpPr>
            <p:cNvPr id="168" name=""/>
            <p:cNvGrpSpPr/>
            <p:nvPr/>
          </p:nvGrpSpPr>
          <p:grpSpPr>
            <a:xfrm>
              <a:off x="2949840" y="5232240"/>
              <a:ext cx="2094840" cy="553680"/>
              <a:chOff x="2949840" y="5232240"/>
              <a:chExt cx="2094840" cy="553680"/>
            </a:xfrm>
          </p:grpSpPr>
          <p:sp>
            <p:nvSpPr>
              <p:cNvPr id="169" name=""/>
              <p:cNvSpPr/>
              <p:nvPr/>
            </p:nvSpPr>
            <p:spPr>
              <a:xfrm>
                <a:off x="2949840" y="523224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rise        change in </a:t>
                </a:r>
                <a:r>
                  <a:rPr b="1" i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014640" y="5553000"/>
                <a:ext cx="38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51280" y="5553000"/>
                <a:ext cx="108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76440" y="5326200"/>
                <a:ext cx="42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 flipH="1" flipV="1">
              <a:off x="7469280" y="2665440"/>
              <a:ext cx="1440" cy="466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>
            <a:hlinkClick r:id="rId3" action="ppaction://hlinksldjump"/>
          </p:cNvPr>
          <p:cNvSpPr/>
          <p:nvPr/>
        </p:nvSpPr>
        <p:spPr>
          <a:xfrm>
            <a:off x="5981760" y="6324480"/>
            <a:ext cx="96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2060640" y="1940040"/>
            <a:ext cx="4142520" cy="1050840"/>
            <a:chOff x="2060640" y="1940040"/>
            <a:chExt cx="4142520" cy="1050840"/>
          </a:xfrm>
        </p:grpSpPr>
        <p:sp>
          <p:nvSpPr>
            <p:cNvPr id="176" name=""/>
            <p:cNvSpPr/>
            <p:nvPr/>
          </p:nvSpPr>
          <p:spPr>
            <a:xfrm>
              <a:off x="2060640" y="2025720"/>
              <a:ext cx="76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63800" y="2235240"/>
              <a:ext cx="23018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run         change in </a:t>
              </a:r>
              <a:r>
                <a:rPr b="1" i="1" lang="en-US" sz="21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63800" y="1941480"/>
              <a:ext cx="22813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rise         change in </a:t>
              </a:r>
              <a:r>
                <a:rPr b="1" i="1" lang="en-US" sz="21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25720" y="2306520"/>
              <a:ext cx="38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17800" y="2303640"/>
              <a:ext cx="108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17400" y="208296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89600" y="2071800"/>
              <a:ext cx="37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407200" y="1940040"/>
              <a:ext cx="795960" cy="1050840"/>
              <a:chOff x="5407200" y="1940040"/>
              <a:chExt cx="795960" cy="1050840"/>
            </a:xfrm>
          </p:grpSpPr>
          <p:sp>
            <p:nvSpPr>
              <p:cNvPr id="184" name=""/>
              <p:cNvSpPr/>
              <p:nvPr/>
            </p:nvSpPr>
            <p:spPr>
              <a:xfrm>
                <a:off x="5407200" y="1940040"/>
                <a:ext cx="753480" cy="44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1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1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59400" y="2303280"/>
                <a:ext cx="68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418720" y="2235240"/>
                <a:ext cx="784440" cy="75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100" spc="-1" strike="noStrike">
                    <a:solidFill>
                      <a:srgbClr val="0000ff"/>
                    </a:solidFill>
                    <a:latin typeface="Times New Roman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-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1" i="1" lang="en-US" sz="2100" spc="-1" strike="noStrike">
                    <a:solidFill>
                      <a:srgbClr val="0000ff"/>
                    </a:solidFill>
                    <a:latin typeface="Times New Roman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00ff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1592280" y="1798560"/>
            <a:ext cx="474012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476520" y="1515960"/>
            <a:ext cx="1667880" cy="829440"/>
            <a:chOff x="3476520" y="1515960"/>
            <a:chExt cx="1667880" cy="829440"/>
          </a:xfrm>
        </p:grpSpPr>
        <p:sp>
          <p:nvSpPr>
            <p:cNvPr id="189" name=""/>
            <p:cNvSpPr/>
            <p:nvPr/>
          </p:nvSpPr>
          <p:spPr>
            <a:xfrm>
              <a:off x="4351320" y="1515960"/>
              <a:ext cx="789120" cy="4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1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76520" y="1631880"/>
              <a:ext cx="127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59960" y="1901520"/>
              <a:ext cx="784440" cy="4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i="1" lang="en-US" sz="21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21160" y="1941480"/>
              <a:ext cx="68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90520" y="2884320"/>
            <a:ext cx="8474040" cy="1168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rder of subtraction is important. You can label either point 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the other point 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However, both the  numerator  and  denomin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use the same order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617868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3378240" y="3344760"/>
            <a:ext cx="3416040" cy="1626480"/>
            <a:chOff x="3378240" y="3344760"/>
            <a:chExt cx="3416040" cy="1626480"/>
          </a:xfrm>
        </p:grpSpPr>
        <p:sp>
          <p:nvSpPr>
            <p:cNvPr id="196" name=""/>
            <p:cNvSpPr/>
            <p:nvPr/>
          </p:nvSpPr>
          <p:spPr>
            <a:xfrm>
              <a:off x="5618520" y="3344760"/>
              <a:ext cx="1175760" cy="305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nume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57800" y="4538520"/>
              <a:ext cx="75348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1800" spc="-1" strike="noStrike" baseline="-2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1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1800" spc="-1" strike="noStrike" baseline="-20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378240" y="4933800"/>
              <a:ext cx="83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448800" y="3344760"/>
            <a:ext cx="5243400" cy="1945800"/>
            <a:chOff x="3448800" y="3344760"/>
            <a:chExt cx="5243400" cy="1945800"/>
          </a:xfrm>
        </p:grpSpPr>
        <p:sp>
          <p:nvSpPr>
            <p:cNvPr id="200" name=""/>
            <p:cNvSpPr/>
            <p:nvPr/>
          </p:nvSpPr>
          <p:spPr>
            <a:xfrm>
              <a:off x="7289280" y="3344760"/>
              <a:ext cx="1402920" cy="305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denomin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48800" y="4857840"/>
              <a:ext cx="78444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en-US" sz="1800" spc="-1" strike="noStrike" baseline="-20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i="1" lang="en-US" sz="21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en-US" sz="1800" spc="-1" strike="noStrike" baseline="-20000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95120" y="203040"/>
            <a:ext cx="4911480" cy="446400"/>
            <a:chOff x="195120" y="203040"/>
            <a:chExt cx="4911480" cy="446400"/>
          </a:xfrm>
        </p:grpSpPr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195120" y="20304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1346040" y="237960"/>
              <a:ext cx="376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DING TH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PE OF 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L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460520" y="6224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65320" y="1020600"/>
            <a:ext cx="468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you use the formula for the slop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70400" y="5394240"/>
            <a:ext cx="938160" cy="534960"/>
          </a:xfrm>
          <a:prstGeom prst="line">
            <a:avLst/>
          </a:prstGeom>
          <a:ln cap="rnd" w="316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470400" y="5403960"/>
            <a:ext cx="938160" cy="534960"/>
          </a:xfrm>
          <a:prstGeom prst="line">
            <a:avLst/>
          </a:prstGeom>
          <a:ln cap="rnd" w="316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3" action="ppaction://hlinksldjump"/>
          </p:cNvPr>
          <p:cNvSpPr/>
          <p:nvPr/>
        </p:nvSpPr>
        <p:spPr>
          <a:xfrm>
            <a:off x="5981760" y="6324480"/>
            <a:ext cx="96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81160" y="2898720"/>
            <a:ext cx="8481960" cy="2244960"/>
            <a:chOff x="281160" y="2898720"/>
            <a:chExt cx="8481960" cy="2244960"/>
          </a:xfrm>
        </p:grpSpPr>
        <p:sp>
          <p:nvSpPr>
            <p:cNvPr id="211" name=""/>
            <p:cNvSpPr/>
            <p:nvPr/>
          </p:nvSpPr>
          <p:spPr>
            <a:xfrm>
              <a:off x="4735440" y="4956120"/>
              <a:ext cx="712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44640" y="4778280"/>
              <a:ext cx="3231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33cc"/>
                  </a:solidFill>
                  <a:latin typeface="Arial"/>
                </a:rPr>
                <a:t>Subtraction order is the sa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1160" y="2898720"/>
              <a:ext cx="8481960" cy="117648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2ad6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the  numerator  and  denominator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must use the same subtraction order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65240" y="4724280"/>
              <a:ext cx="1231920" cy="419400"/>
            </a:xfrm>
            <a:prstGeom prst="rightArrow">
              <a:avLst>
                <a:gd name="adj1" fmla="val 50000"/>
                <a:gd name="adj2" fmla="val 73433"/>
              </a:avLst>
            </a:prstGeom>
            <a:gradFill rotWithShape="0">
              <a:gsLst>
                <a:gs pos="0">
                  <a:srgbClr val="2ad657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97120" y="4767120"/>
              <a:ext cx="11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RREC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79360" y="2898720"/>
            <a:ext cx="8496360" cy="3144240"/>
            <a:chOff x="279360" y="2898720"/>
            <a:chExt cx="8496360" cy="3144240"/>
          </a:xfrm>
        </p:grpSpPr>
        <p:sp>
          <p:nvSpPr>
            <p:cNvPr id="217" name=""/>
            <p:cNvSpPr/>
            <p:nvPr/>
          </p:nvSpPr>
          <p:spPr>
            <a:xfrm>
              <a:off x="3491640" y="5610240"/>
              <a:ext cx="78444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en-US" sz="1800" spc="-1" strike="noStrike" baseline="-20000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i="1" lang="en-US" sz="21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en-US" sz="1800" spc="-1" strike="noStrike" baseline="-20000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92720" y="5288040"/>
              <a:ext cx="75348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1800" spc="-1" strike="noStrike" baseline="-2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1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1800" spc="-1" strike="noStrike" baseline="-20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83000" y="5695920"/>
              <a:ext cx="83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48040" y="5680080"/>
              <a:ext cx="712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56520" y="5502240"/>
              <a:ext cx="31586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33cc"/>
                  </a:solidFill>
                  <a:latin typeface="Arial"/>
                </a:rPr>
                <a:t>Subtraction order is differe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09720" y="5491080"/>
              <a:ext cx="13748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0000"/>
                  </a:solidFill>
                  <a:latin typeface="Arial"/>
                </a:rPr>
                <a:t>INCORREC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9360" y="2898720"/>
              <a:ext cx="8496360" cy="1177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47640" y="1841400"/>
            <a:ext cx="2870280" cy="787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6880" y="1778040"/>
            <a:ext cx="2959200" cy="90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95600" y="1884240"/>
            <a:ext cx="2664720" cy="748800"/>
            <a:chOff x="795600" y="1884240"/>
            <a:chExt cx="2664720" cy="748800"/>
          </a:xfrm>
        </p:grpSpPr>
        <p:sp>
          <p:nvSpPr>
            <p:cNvPr id="227" name=""/>
            <p:cNvSpPr/>
            <p:nvPr/>
          </p:nvSpPr>
          <p:spPr>
            <a:xfrm>
              <a:off x="795600" y="1884240"/>
              <a:ext cx="266472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 baseline="-2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000" spc="-1" strike="noStrike" baseline="-2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-1, 2)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07440" y="2205000"/>
              <a:ext cx="168012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 baseline="-2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000" spc="-1" strike="noStrike" baseline="-2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3, 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303920" y="2236680"/>
            <a:ext cx="1501200" cy="334440"/>
            <a:chOff x="1303920" y="2236680"/>
            <a:chExt cx="1501200" cy="334440"/>
          </a:xfrm>
        </p:grpSpPr>
        <p:sp>
          <p:nvSpPr>
            <p:cNvPr id="230" name=""/>
            <p:cNvSpPr/>
            <p:nvPr/>
          </p:nvSpPr>
          <p:spPr>
            <a:xfrm>
              <a:off x="2249280" y="2236680"/>
              <a:ext cx="555840" cy="305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03920" y="2236680"/>
              <a:ext cx="689400" cy="334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en-US" sz="2000" spc="-1" strike="noStrike" baseline="-20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290960" y="1919160"/>
            <a:ext cx="1603800" cy="334440"/>
            <a:chOff x="1290960" y="1919160"/>
            <a:chExt cx="1603800" cy="334440"/>
          </a:xfrm>
        </p:grpSpPr>
        <p:sp>
          <p:nvSpPr>
            <p:cNvPr id="233" name=""/>
            <p:cNvSpPr/>
            <p:nvPr/>
          </p:nvSpPr>
          <p:spPr>
            <a:xfrm>
              <a:off x="2253600" y="1933560"/>
              <a:ext cx="641160" cy="305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-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90960" y="1919160"/>
              <a:ext cx="716760" cy="334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en-US" sz="2000" spc="-1" strike="noStrike" baseline="-20000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0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617868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74720" y="863640"/>
            <a:ext cx="5792760" cy="393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120" y="781200"/>
            <a:ext cx="591480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70120" y="880920"/>
            <a:ext cx="57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d the slope of a line passing through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-1, 2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and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3, 2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2819520"/>
            <a:ext cx="3949560" cy="672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6880" y="2743200"/>
            <a:ext cx="406404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12880" y="4610160"/>
            <a:ext cx="3200400" cy="660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1360" y="4546440"/>
            <a:ext cx="345420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74720" y="3695760"/>
            <a:ext cx="3174840" cy="774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49160" y="3632040"/>
            <a:ext cx="328932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353960" y="5268960"/>
            <a:ext cx="5060880" cy="1020600"/>
            <a:chOff x="1353960" y="5268960"/>
            <a:chExt cx="5060880" cy="1020600"/>
          </a:xfrm>
        </p:grpSpPr>
        <p:sp>
          <p:nvSpPr>
            <p:cNvPr id="246" name=""/>
            <p:cNvSpPr/>
            <p:nvPr/>
          </p:nvSpPr>
          <p:spPr>
            <a:xfrm>
              <a:off x="1353960" y="5268960"/>
              <a:ext cx="679680" cy="878040"/>
            </a:xfrm>
            <a:prstGeom prst="irregularSeal1">
              <a:avLst/>
            </a:prstGeom>
            <a:gradFill rotWithShape="0">
              <a:gsLst>
                <a:gs pos="0">
                  <a:srgbClr val="fefee7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09600" y="5464080"/>
              <a:ext cx="4305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lope is zero.  Line is horizonta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673520" y="1322280"/>
            <a:ext cx="3965400" cy="3930480"/>
            <a:chOff x="4673520" y="1322280"/>
            <a:chExt cx="3965400" cy="3930480"/>
          </a:xfrm>
        </p:grpSpPr>
        <p:grpSp>
          <p:nvGrpSpPr>
            <p:cNvPr id="249" name=""/>
            <p:cNvGrpSpPr/>
            <p:nvPr/>
          </p:nvGrpSpPr>
          <p:grpSpPr>
            <a:xfrm>
              <a:off x="4673520" y="1346040"/>
              <a:ext cx="3965400" cy="3906720"/>
              <a:chOff x="4673520" y="1346040"/>
              <a:chExt cx="3965400" cy="3906720"/>
            </a:xfrm>
          </p:grpSpPr>
          <p:sp>
            <p:nvSpPr>
              <p:cNvPr id="250" name=""/>
              <p:cNvSpPr/>
              <p:nvPr/>
            </p:nvSpPr>
            <p:spPr>
              <a:xfrm>
                <a:off x="4673520" y="1358640"/>
                <a:ext cx="3965400" cy="388620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5016600" y="1346040"/>
                <a:ext cx="3298680" cy="3906720"/>
                <a:chOff x="5016600" y="1346040"/>
                <a:chExt cx="3298680" cy="390672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5016600" y="1352520"/>
                  <a:ext cx="0" cy="38876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343480" y="1346040"/>
                  <a:ext cx="0" cy="388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642000" y="1350720"/>
                  <a:ext cx="0" cy="388800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10520" y="1350720"/>
                  <a:ext cx="0" cy="388800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673600" y="1358640"/>
                  <a:ext cx="0" cy="388800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970680" y="1352520"/>
                  <a:ext cx="0" cy="38876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994360" y="1346040"/>
                  <a:ext cx="0" cy="38876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643880" y="1349280"/>
                  <a:ext cx="0" cy="38876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315120" y="1349280"/>
                  <a:ext cx="0" cy="38876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988400" y="1355760"/>
                  <a:ext cx="0" cy="38876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315280" y="1365120"/>
                  <a:ext cx="0" cy="38876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4703400" y="1658880"/>
                <a:ext cx="3906720" cy="3298680"/>
                <a:chOff x="4703400" y="1658880"/>
                <a:chExt cx="3906720" cy="3298680"/>
              </a:xfrm>
            </p:grpSpPr>
            <p:sp>
              <p:nvSpPr>
                <p:cNvPr id="264" name=""/>
                <p:cNvSpPr/>
                <p:nvPr/>
              </p:nvSpPr>
              <p:spPr>
                <a:xfrm flipH="1">
                  <a:off x="4716000" y="1658880"/>
                  <a:ext cx="388764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>
                  <a:off x="4722480" y="1985760"/>
                  <a:ext cx="388764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>
                  <a:off x="4717800" y="3284280"/>
                  <a:ext cx="388800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>
                  <a:off x="4717800" y="3952800"/>
                  <a:ext cx="388800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>
                  <a:off x="4709880" y="2315880"/>
                  <a:ext cx="388800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>
                  <a:off x="4716000" y="3612960"/>
                  <a:ext cx="388764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>
                  <a:off x="4722480" y="2636640"/>
                  <a:ext cx="388764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>
                  <a:off x="4719240" y="4286160"/>
                  <a:ext cx="388764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4719240" y="2957400"/>
                  <a:ext cx="388764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4713120" y="4630680"/>
                  <a:ext cx="3888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4703400" y="4957560"/>
                  <a:ext cx="388764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5" name=""/>
            <p:cNvSpPr/>
            <p:nvPr/>
          </p:nvSpPr>
          <p:spPr>
            <a:xfrm>
              <a:off x="8378640" y="4626000"/>
              <a:ext cx="22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07200" y="132228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88560" y="4614840"/>
              <a:ext cx="288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            3             5             7             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66280" y="475272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74320" y="4587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70520" y="1582560"/>
              <a:ext cx="361800" cy="29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671200" y="884160"/>
            <a:ext cx="5910840" cy="3071520"/>
            <a:chOff x="2671200" y="884160"/>
            <a:chExt cx="5910840" cy="3071520"/>
          </a:xfrm>
        </p:grpSpPr>
        <p:sp>
          <p:nvSpPr>
            <p:cNvPr id="282" name=""/>
            <p:cNvSpPr/>
            <p:nvPr/>
          </p:nvSpPr>
          <p:spPr>
            <a:xfrm flipV="1">
              <a:off x="4627440" y="3953880"/>
              <a:ext cx="3954600" cy="180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71200" y="884160"/>
              <a:ext cx="436680" cy="3682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796320" y="14130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7320" y="2832120"/>
            <a:ext cx="63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77760" y="2982960"/>
            <a:ext cx="698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304280" y="3956040"/>
            <a:ext cx="6517080" cy="492120"/>
            <a:chOff x="1304280" y="3956040"/>
            <a:chExt cx="6517080" cy="492120"/>
          </a:xfrm>
        </p:grpSpPr>
        <p:grpSp>
          <p:nvGrpSpPr>
            <p:cNvPr id="288" name=""/>
            <p:cNvGrpSpPr/>
            <p:nvPr/>
          </p:nvGrpSpPr>
          <p:grpSpPr>
            <a:xfrm>
              <a:off x="4991040" y="3956040"/>
              <a:ext cx="2830320" cy="492120"/>
              <a:chOff x="4991040" y="3956040"/>
              <a:chExt cx="2830320" cy="492120"/>
            </a:xfrm>
          </p:grpSpPr>
          <p:sp>
            <p:nvSpPr>
              <p:cNvPr id="289" name=""/>
              <p:cNvSpPr/>
              <p:nvPr/>
            </p:nvSpPr>
            <p:spPr>
              <a:xfrm>
                <a:off x="5544720" y="4183200"/>
                <a:ext cx="2276640" cy="264960"/>
              </a:xfrm>
              <a:prstGeom prst="wedgeRectCallout">
                <a:avLst>
                  <a:gd name="adj1" fmla="val -50560"/>
                  <a:gd name="adj2" fmla="val -120060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Times New Roman"/>
                  </a:rPr>
                  <a:t>run = 3 - ( -1) = 4 uni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991040" y="3956040"/>
                <a:ext cx="12999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1304280" y="4005000"/>
              <a:ext cx="8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 - (-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009800" y="3019320"/>
            <a:ext cx="6487920" cy="1210680"/>
            <a:chOff x="1009800" y="3019320"/>
            <a:chExt cx="6487920" cy="1210680"/>
          </a:xfrm>
        </p:grpSpPr>
        <p:sp>
          <p:nvSpPr>
            <p:cNvPr id="293" name=""/>
            <p:cNvSpPr/>
            <p:nvPr/>
          </p:nvSpPr>
          <p:spPr>
            <a:xfrm>
              <a:off x="5602320" y="3019320"/>
              <a:ext cx="1895400" cy="376200"/>
            </a:xfrm>
            <a:prstGeom prst="wedgeRectCallout">
              <a:avLst>
                <a:gd name="adj1" fmla="val -42296"/>
                <a:gd name="adj2" fmla="val 141138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rise = 2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 2 = 0 un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76200" y="3716280"/>
              <a:ext cx="73872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10000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 -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33440" y="4037040"/>
              <a:ext cx="69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09800" y="3863880"/>
              <a:ext cx="28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2106360" y="3782880"/>
            <a:ext cx="1879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ubstitute valu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058400" y="5492880"/>
            <a:ext cx="785160" cy="459720"/>
            <a:chOff x="1058400" y="5492880"/>
            <a:chExt cx="785160" cy="459720"/>
          </a:xfrm>
        </p:grpSpPr>
        <p:sp>
          <p:nvSpPr>
            <p:cNvPr id="299" name=""/>
            <p:cNvSpPr/>
            <p:nvPr/>
          </p:nvSpPr>
          <p:spPr>
            <a:xfrm>
              <a:off x="1058400" y="549288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34680" y="5516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22200" y="201600"/>
            <a:ext cx="5651640" cy="460440"/>
            <a:chOff x="322200" y="201600"/>
            <a:chExt cx="5651640" cy="460440"/>
          </a:xfrm>
        </p:grpSpPr>
        <p:sp>
          <p:nvSpPr>
            <p:cNvPr id="302" name=""/>
            <p:cNvSpPr/>
            <p:nvPr/>
          </p:nvSpPr>
          <p:spPr>
            <a:xfrm>
              <a:off x="1696680" y="244440"/>
              <a:ext cx="427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 Line with a Zero Slope is Horizon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3" name="" descr=""/>
            <p:cNvPicPr/>
            <p:nvPr/>
          </p:nvPicPr>
          <p:blipFill>
            <a:blip r:embed="rId2"/>
            <a:stretch/>
          </p:blipFill>
          <p:spPr>
            <a:xfrm>
              <a:off x="322200" y="20160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"/>
          <p:cNvSpPr/>
          <p:nvPr/>
        </p:nvSpPr>
        <p:spPr>
          <a:xfrm>
            <a:off x="1752480" y="60948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323360" y="3079800"/>
            <a:ext cx="3348720" cy="428040"/>
            <a:chOff x="1323360" y="3079800"/>
            <a:chExt cx="3348720" cy="428040"/>
          </a:xfrm>
        </p:grpSpPr>
        <p:sp>
          <p:nvSpPr>
            <p:cNvPr id="306" name=""/>
            <p:cNvSpPr/>
            <p:nvPr/>
          </p:nvSpPr>
          <p:spPr>
            <a:xfrm>
              <a:off x="1323360" y="3079800"/>
              <a:ext cx="79956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en-US" sz="2000" spc="-1" strike="noStrike" baseline="-20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 - 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en-US" sz="2000" spc="-1" strike="noStrike" baseline="-20000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93840" y="3133800"/>
              <a:ext cx="2478240" cy="309240"/>
            </a:xfrm>
            <a:prstGeom prst="wedgeRectCallout">
              <a:avLst>
                <a:gd name="adj1" fmla="val -51666"/>
                <a:gd name="adj2" fmla="val -6538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Run: difference of x-valu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120760" y="3276360"/>
              <a:ext cx="1522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329480" y="2763720"/>
            <a:ext cx="3334680" cy="428040"/>
            <a:chOff x="1329480" y="2763720"/>
            <a:chExt cx="3334680" cy="428040"/>
          </a:xfrm>
        </p:grpSpPr>
        <p:grpSp>
          <p:nvGrpSpPr>
            <p:cNvPr id="310" name=""/>
            <p:cNvGrpSpPr/>
            <p:nvPr/>
          </p:nvGrpSpPr>
          <p:grpSpPr>
            <a:xfrm>
              <a:off x="2114280" y="2836800"/>
              <a:ext cx="2549880" cy="325440"/>
              <a:chOff x="2114280" y="2836800"/>
              <a:chExt cx="2549880" cy="325440"/>
            </a:xfrm>
          </p:grpSpPr>
          <p:sp>
            <p:nvSpPr>
              <p:cNvPr id="311" name=""/>
              <p:cNvSpPr/>
              <p:nvPr/>
            </p:nvSpPr>
            <p:spPr>
              <a:xfrm>
                <a:off x="2216160" y="2836800"/>
                <a:ext cx="2448000" cy="325440"/>
              </a:xfrm>
              <a:prstGeom prst="wedgeRectCallout">
                <a:avLst>
                  <a:gd name="adj1" fmla="val -57717"/>
                  <a:gd name="adj2" fmla="val -31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Rise: difference of y-valu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2114280" y="29970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1329480" y="2763720"/>
              <a:ext cx="768600" cy="428040"/>
              <a:chOff x="1329480" y="2763720"/>
              <a:chExt cx="768600" cy="428040"/>
            </a:xfrm>
          </p:grpSpPr>
          <p:sp>
            <p:nvSpPr>
              <p:cNvPr id="314" name=""/>
              <p:cNvSpPr/>
              <p:nvPr/>
            </p:nvSpPr>
            <p:spPr>
              <a:xfrm>
                <a:off x="1329480" y="2763720"/>
                <a:ext cx="768600" cy="42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000" spc="-1" strike="noStrike" baseline="-20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 - </a:t>
                </a:r>
                <a:r>
                  <a:rPr b="1" i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000" spc="-1" strike="noStrike" baseline="-20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359000" y="3136680"/>
                <a:ext cx="66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6" name=""/>
          <p:cNvGrpSpPr/>
          <p:nvPr/>
        </p:nvGrpSpPr>
        <p:grpSpPr>
          <a:xfrm>
            <a:off x="1008000" y="4611600"/>
            <a:ext cx="2184480" cy="642600"/>
            <a:chOff x="1008000" y="4611600"/>
            <a:chExt cx="2184480" cy="642600"/>
          </a:xfrm>
        </p:grpSpPr>
        <p:sp>
          <p:nvSpPr>
            <p:cNvPr id="317" name=""/>
            <p:cNvSpPr/>
            <p:nvPr/>
          </p:nvSpPr>
          <p:spPr>
            <a:xfrm>
              <a:off x="2106360" y="4680000"/>
              <a:ext cx="10861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implify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08000" y="4713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96880" y="4611600"/>
              <a:ext cx="2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96880" y="4924440"/>
              <a:ext cx="27000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5981760" y="6324480"/>
            <a:ext cx="96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648320" y="923760"/>
            <a:ext cx="653760" cy="3078360"/>
            <a:chOff x="4648320" y="923760"/>
            <a:chExt cx="653760" cy="3078360"/>
          </a:xfrm>
        </p:grpSpPr>
        <p:sp>
          <p:nvSpPr>
            <p:cNvPr id="323" name=""/>
            <p:cNvSpPr/>
            <p:nvPr/>
          </p:nvSpPr>
          <p:spPr>
            <a:xfrm>
              <a:off x="4648320" y="923760"/>
              <a:ext cx="653760" cy="518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-1, 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18160" y="3506760"/>
              <a:ext cx="56520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-1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79880" y="3902040"/>
              <a:ext cx="100080" cy="100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784840" y="907920"/>
            <a:ext cx="1092960" cy="3092760"/>
            <a:chOff x="5784840" y="907920"/>
            <a:chExt cx="1092960" cy="3092760"/>
          </a:xfrm>
        </p:grpSpPr>
        <p:sp>
          <p:nvSpPr>
            <p:cNvPr id="327" name=""/>
            <p:cNvSpPr/>
            <p:nvPr/>
          </p:nvSpPr>
          <p:spPr>
            <a:xfrm>
              <a:off x="5784840" y="907920"/>
              <a:ext cx="665280" cy="3175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37880" y="3557520"/>
              <a:ext cx="43992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69040" y="3900600"/>
              <a:ext cx="100080" cy="100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579920" y="870120"/>
            <a:ext cx="1976760" cy="602640"/>
            <a:chOff x="4579920" y="870120"/>
            <a:chExt cx="1976760" cy="602640"/>
          </a:xfrm>
        </p:grpSpPr>
        <p:sp>
          <p:nvSpPr>
            <p:cNvPr id="331" name=""/>
            <p:cNvSpPr/>
            <p:nvPr/>
          </p:nvSpPr>
          <p:spPr>
            <a:xfrm>
              <a:off x="4579920" y="923760"/>
              <a:ext cx="72864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-1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04560" y="870120"/>
              <a:ext cx="8521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270080" y="1623960"/>
            <a:ext cx="1720800" cy="947160"/>
            <a:chOff x="1270080" y="1623960"/>
            <a:chExt cx="1720800" cy="947160"/>
          </a:xfrm>
        </p:grpSpPr>
        <p:sp>
          <p:nvSpPr>
            <p:cNvPr id="334" name=""/>
            <p:cNvSpPr/>
            <p:nvPr/>
          </p:nvSpPr>
          <p:spPr>
            <a:xfrm>
              <a:off x="2253960" y="2236680"/>
              <a:ext cx="583200" cy="30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81240" y="1797120"/>
              <a:ext cx="716760" cy="45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en-US" sz="2000" spc="-1" strike="noStrike" baseline="-20000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0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41720" y="1623960"/>
              <a:ext cx="749160" cy="6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-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0080" y="2236680"/>
              <a:ext cx="749160" cy="33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en-US" sz="2000" spc="-1" strike="noStrike" baseline="-20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4924440" y="3857760"/>
            <a:ext cx="201600" cy="20160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22960" y="3849840"/>
            <a:ext cx="201600" cy="20160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41" name=""/>
          <p:cNvGrpSpPr/>
          <p:nvPr/>
        </p:nvGrpSpPr>
        <p:grpSpPr>
          <a:xfrm>
            <a:off x="4535640" y="1974960"/>
            <a:ext cx="4365360" cy="4250520"/>
            <a:chOff x="4535640" y="1974960"/>
            <a:chExt cx="4365360" cy="4250520"/>
          </a:xfrm>
        </p:grpSpPr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4986360" y="2009880"/>
              <a:ext cx="389088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4935600" y="2011320"/>
              <a:ext cx="3965400" cy="3886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278320" y="2004840"/>
              <a:ext cx="0" cy="3888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80000" y="2052720"/>
              <a:ext cx="0" cy="3222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04080" y="2003400"/>
              <a:ext cx="0" cy="38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72240" y="2003400"/>
              <a:ext cx="0" cy="38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35680" y="2011320"/>
              <a:ext cx="0" cy="3888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32760" y="2004840"/>
              <a:ext cx="0" cy="3888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56440" y="1998720"/>
              <a:ext cx="0" cy="38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05600" y="2001960"/>
              <a:ext cx="0" cy="38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576840" y="2001960"/>
              <a:ext cx="0" cy="38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250120" y="2008080"/>
              <a:ext cx="0" cy="3888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77360" y="2017800"/>
              <a:ext cx="0" cy="38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4965480" y="2311560"/>
              <a:ext cx="3906360" cy="3298680"/>
              <a:chOff x="4965480" y="2311560"/>
              <a:chExt cx="3906360" cy="3298680"/>
            </a:xfrm>
          </p:grpSpPr>
          <p:sp>
            <p:nvSpPr>
              <p:cNvPr id="356" name=""/>
              <p:cNvSpPr/>
              <p:nvPr/>
            </p:nvSpPr>
            <p:spPr>
              <a:xfrm flipH="1">
                <a:off x="4978440" y="2311560"/>
                <a:ext cx="3887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4984200" y="2638440"/>
                <a:ext cx="388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4979880" y="3936960"/>
                <a:ext cx="3887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4979880" y="4605120"/>
                <a:ext cx="3887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4971960" y="2968560"/>
                <a:ext cx="3887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4978440" y="4265640"/>
                <a:ext cx="3887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4984200" y="3289320"/>
                <a:ext cx="388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4980960" y="4938480"/>
                <a:ext cx="388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4980960" y="3610080"/>
                <a:ext cx="388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5577840" y="5267160"/>
                <a:ext cx="3284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4965480" y="5610240"/>
                <a:ext cx="388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8640000" y="5278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67480" y="19749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45960" y="5284800"/>
              <a:ext cx="279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          15           25           35           4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03080" y="2257560"/>
              <a:ext cx="360360" cy="29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7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3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9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6200000">
              <a:off x="4115160" y="4307760"/>
              <a:ext cx="108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eight (fee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93360" y="5981760"/>
              <a:ext cx="130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ime (second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43080" y="1257480"/>
            <a:ext cx="8153280" cy="672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31840" y="1206360"/>
            <a:ext cx="842004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7120" y="1252440"/>
            <a:ext cx="82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are parachuting.  At tim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0 seconds, you open your parachute 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2500 fe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ove the ground.  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35 seconds, you are 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2115 feet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2357280"/>
            <a:ext cx="40705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What is your rate of change in heigh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7640" y="3147840"/>
            <a:ext cx="41216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About when will you reach the groun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16720" y="2984400"/>
            <a:ext cx="3314520" cy="1812960"/>
          </a:xfrm>
          <a:prstGeom prst="line">
            <a:avLst/>
          </a:prstGeom>
          <a:ln w="28440">
            <a:solidFill>
              <a:srgbClr val="008f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22200" y="722160"/>
            <a:ext cx="4429800" cy="460440"/>
            <a:chOff x="322200" y="722160"/>
            <a:chExt cx="4429800" cy="460440"/>
          </a:xfrm>
        </p:grpSpPr>
        <p:sp>
          <p:nvSpPr>
            <p:cNvPr id="380" name=""/>
            <p:cNvSpPr/>
            <p:nvPr/>
          </p:nvSpPr>
          <p:spPr>
            <a:xfrm>
              <a:off x="1699920" y="758880"/>
              <a:ext cx="30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lope as a Rate of Ch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1" name="" descr=""/>
            <p:cNvPicPr/>
            <p:nvPr/>
          </p:nvPicPr>
          <p:blipFill>
            <a:blip r:embed="rId3"/>
            <a:stretch/>
          </p:blipFill>
          <p:spPr>
            <a:xfrm>
              <a:off x="322200" y="72216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2" name=""/>
          <p:cNvSpPr/>
          <p:nvPr/>
        </p:nvSpPr>
        <p:spPr>
          <a:xfrm>
            <a:off x="1346040" y="237960"/>
            <a:ext cx="55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TERPRE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PE A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E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176040" y="227160"/>
            <a:ext cx="1097280" cy="4330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1460520" y="6224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52480" y="113040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554800" y="2700360"/>
            <a:ext cx="1070640" cy="368280"/>
            <a:chOff x="5554800" y="2700360"/>
            <a:chExt cx="1070640" cy="368280"/>
          </a:xfrm>
        </p:grpSpPr>
        <p:sp>
          <p:nvSpPr>
            <p:cNvPr id="387" name=""/>
            <p:cNvSpPr/>
            <p:nvPr/>
          </p:nvSpPr>
          <p:spPr>
            <a:xfrm>
              <a:off x="5554800" y="2935440"/>
              <a:ext cx="91800" cy="92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04480" y="2700360"/>
              <a:ext cx="102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cc0000"/>
                  </a:solidFill>
                  <a:latin typeface="Times New Roman"/>
                </a:rPr>
                <a:t>2500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222720" y="1309680"/>
            <a:ext cx="5106600" cy="281160"/>
            <a:chOff x="3222720" y="1309680"/>
            <a:chExt cx="5106600" cy="281160"/>
          </a:xfrm>
        </p:grpSpPr>
        <p:sp>
          <p:nvSpPr>
            <p:cNvPr id="390" name=""/>
            <p:cNvSpPr/>
            <p:nvPr/>
          </p:nvSpPr>
          <p:spPr>
            <a:xfrm>
              <a:off x="3222720" y="1316160"/>
              <a:ext cx="128880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 = 0 second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085160" y="1309680"/>
              <a:ext cx="124416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 = 2500 f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484720" y="1585800"/>
            <a:ext cx="3663720" cy="274680"/>
            <a:chOff x="2484720" y="1585800"/>
            <a:chExt cx="3663720" cy="274680"/>
          </a:xfrm>
        </p:grpSpPr>
        <p:sp>
          <p:nvSpPr>
            <p:cNvPr id="393" name=""/>
            <p:cNvSpPr/>
            <p:nvPr/>
          </p:nvSpPr>
          <p:spPr>
            <a:xfrm>
              <a:off x="2484720" y="1585800"/>
              <a:ext cx="140292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 = 35 second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46320" y="1585800"/>
              <a:ext cx="130212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h 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= 2115 feet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484720" y="1309680"/>
            <a:ext cx="5844600" cy="550800"/>
            <a:chOff x="2484720" y="1309680"/>
            <a:chExt cx="5844600" cy="550800"/>
          </a:xfrm>
        </p:grpSpPr>
        <p:grpSp>
          <p:nvGrpSpPr>
            <p:cNvPr id="396" name=""/>
            <p:cNvGrpSpPr/>
            <p:nvPr/>
          </p:nvGrpSpPr>
          <p:grpSpPr>
            <a:xfrm>
              <a:off x="3222720" y="1309680"/>
              <a:ext cx="5106600" cy="281160"/>
              <a:chOff x="3222720" y="1309680"/>
              <a:chExt cx="5106600" cy="281160"/>
            </a:xfrm>
          </p:grpSpPr>
          <p:sp>
            <p:nvSpPr>
              <p:cNvPr id="397" name=""/>
              <p:cNvSpPr/>
              <p:nvPr/>
            </p:nvSpPr>
            <p:spPr>
              <a:xfrm>
                <a:off x="3222720" y="1316160"/>
                <a:ext cx="128880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lang="en-US" sz="1800" spc="-1" strike="noStrike">
                    <a:solidFill>
                      <a:srgbClr val="3333cc"/>
                    </a:solidFill>
                    <a:latin typeface="Times New Roman"/>
                  </a:rPr>
                  <a:t> = 0 seconds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085160" y="1309680"/>
                <a:ext cx="1244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h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 = 2500 fe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84720" y="1585800"/>
              <a:ext cx="3663720" cy="274680"/>
              <a:chOff x="2484720" y="1585800"/>
              <a:chExt cx="3663720" cy="274680"/>
            </a:xfrm>
          </p:grpSpPr>
          <p:sp>
            <p:nvSpPr>
              <p:cNvPr id="400" name=""/>
              <p:cNvSpPr/>
              <p:nvPr/>
            </p:nvSpPr>
            <p:spPr>
              <a:xfrm>
                <a:off x="2484720" y="1585800"/>
                <a:ext cx="140292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lang="en-US" sz="1800" spc="-1" strike="noStrike">
                    <a:solidFill>
                      <a:srgbClr val="3333cc"/>
                    </a:solidFill>
                    <a:latin typeface="Times New Roman"/>
                  </a:rPr>
                  <a:t> = 35 seconds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846320" y="1585800"/>
                <a:ext cx="130212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h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= 2115 feet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2" name=""/>
          <p:cNvGrpSpPr/>
          <p:nvPr/>
        </p:nvGrpSpPr>
        <p:grpSpPr>
          <a:xfrm>
            <a:off x="7003080" y="4218120"/>
            <a:ext cx="1135080" cy="428400"/>
            <a:chOff x="7003080" y="4218120"/>
            <a:chExt cx="1135080" cy="428400"/>
          </a:xfrm>
        </p:grpSpPr>
        <p:sp>
          <p:nvSpPr>
            <p:cNvPr id="403" name=""/>
            <p:cNvSpPr/>
            <p:nvPr/>
          </p:nvSpPr>
          <p:spPr>
            <a:xfrm>
              <a:off x="7877160" y="4218120"/>
              <a:ext cx="92160" cy="91800"/>
            </a:xfrm>
            <a:prstGeom prst="ellipse">
              <a:avLst/>
            </a:prstGeom>
            <a:solidFill>
              <a:srgbClr val="fe00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003080" y="4278240"/>
              <a:ext cx="113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35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cc0000"/>
                  </a:solidFill>
                  <a:latin typeface="Times New Roman"/>
                </a:rPr>
                <a:t>2115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5" name="" descr=""/>
          <p:cNvPicPr/>
          <p:nvPr/>
        </p:nvPicPr>
        <p:blipFill>
          <a:blip r:embed="rId5"/>
          <a:stretch/>
        </p:blipFill>
        <p:spPr>
          <a:xfrm>
            <a:off x="1359000" y="4305240"/>
            <a:ext cx="14191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617868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6993000" y="4735440"/>
            <a:ext cx="703080" cy="916200"/>
          </a:xfrm>
          <a:prstGeom prst="irregularSeal1">
            <a:avLst/>
          </a:prstGeom>
          <a:gradFill rotWithShape="0">
            <a:gsLst>
              <a:gs pos="0">
                <a:srgbClr val="fefee7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43080" y="825480"/>
            <a:ext cx="8432640" cy="135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26680" y="870120"/>
            <a:ext cx="799848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Use the formula for slope to find the rate of change.  The change in time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= 35 seconds.  Subtract in the same order.  The change in height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500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85 f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3419640" y="1165320"/>
            <a:ext cx="2728800" cy="1787040"/>
            <a:chOff x="3419640" y="1165320"/>
            <a:chExt cx="2728800" cy="1787040"/>
          </a:xfrm>
        </p:grpSpPr>
        <p:sp>
          <p:nvSpPr>
            <p:cNvPr id="411" name=""/>
            <p:cNvSpPr/>
            <p:nvPr/>
          </p:nvSpPr>
          <p:spPr>
            <a:xfrm>
              <a:off x="3419640" y="2365200"/>
              <a:ext cx="1018800" cy="587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ate o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77960" y="2468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0" y="1165320"/>
              <a:ext cx="15764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ate of chang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4889520" y="1181160"/>
            <a:ext cx="3338280" cy="1749960"/>
            <a:chOff x="4889520" y="1181160"/>
            <a:chExt cx="3338280" cy="1749960"/>
          </a:xfrm>
        </p:grpSpPr>
        <p:sp>
          <p:nvSpPr>
            <p:cNvPr id="415" name=""/>
            <p:cNvSpPr/>
            <p:nvPr/>
          </p:nvSpPr>
          <p:spPr>
            <a:xfrm>
              <a:off x="4889520" y="2671560"/>
              <a:ext cx="1821960" cy="259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797e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hange in Time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710760" y="1181160"/>
              <a:ext cx="15170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797e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hange in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3701520" y="3295800"/>
            <a:ext cx="36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e of Chang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t/s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54640" y="3745080"/>
            <a:ext cx="327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nge in Heigh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385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911120" y="3327480"/>
            <a:ext cx="1520640" cy="2143800"/>
            <a:chOff x="4911120" y="3327480"/>
            <a:chExt cx="1520640" cy="2143800"/>
          </a:xfrm>
        </p:grpSpPr>
        <p:sp>
          <p:nvSpPr>
            <p:cNvPr id="420" name=""/>
            <p:cNvSpPr/>
            <p:nvPr/>
          </p:nvSpPr>
          <p:spPr>
            <a:xfrm>
              <a:off x="6141600" y="3327480"/>
              <a:ext cx="290160" cy="305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11120" y="5045040"/>
              <a:ext cx="290160" cy="305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92360" y="50115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747760" y="3780000"/>
            <a:ext cx="687960" cy="1377360"/>
            <a:chOff x="5747760" y="3780000"/>
            <a:chExt cx="687960" cy="1377360"/>
          </a:xfrm>
        </p:grpSpPr>
        <p:sp>
          <p:nvSpPr>
            <p:cNvPr id="424" name=""/>
            <p:cNvSpPr/>
            <p:nvPr/>
          </p:nvSpPr>
          <p:spPr>
            <a:xfrm>
              <a:off x="5781240" y="3780000"/>
              <a:ext cx="654480" cy="366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8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7760" y="4791240"/>
              <a:ext cx="642600" cy="366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38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713560" y="5210280"/>
            <a:ext cx="75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635280" y="4238640"/>
            <a:ext cx="481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nge in Tim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35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c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893200" y="4286160"/>
            <a:ext cx="1026720" cy="1316520"/>
            <a:chOff x="5893200" y="4286160"/>
            <a:chExt cx="1026720" cy="1316520"/>
          </a:xfrm>
        </p:grpSpPr>
        <p:sp>
          <p:nvSpPr>
            <p:cNvPr id="429" name=""/>
            <p:cNvSpPr/>
            <p:nvPr/>
          </p:nvSpPr>
          <p:spPr>
            <a:xfrm>
              <a:off x="6053760" y="4286160"/>
              <a:ext cx="348120" cy="305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893200" y="5297400"/>
              <a:ext cx="348120" cy="305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67120" y="49737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036200" y="49230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22200" y="201600"/>
            <a:ext cx="4429800" cy="460440"/>
            <a:chOff x="322200" y="201600"/>
            <a:chExt cx="4429800" cy="460440"/>
          </a:xfrm>
        </p:grpSpPr>
        <p:sp>
          <p:nvSpPr>
            <p:cNvPr id="434" name=""/>
            <p:cNvSpPr/>
            <p:nvPr/>
          </p:nvSpPr>
          <p:spPr>
            <a:xfrm>
              <a:off x="1699920" y="238320"/>
              <a:ext cx="30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lope as a Rate of Ch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5" name="" descr=""/>
            <p:cNvPicPr/>
            <p:nvPr/>
          </p:nvPicPr>
          <p:blipFill>
            <a:blip r:embed="rId2"/>
            <a:stretch/>
          </p:blipFill>
          <p:spPr>
            <a:xfrm>
              <a:off x="322200" y="20160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6" name=""/>
          <p:cNvSpPr/>
          <p:nvPr/>
        </p:nvSpPr>
        <p:spPr>
          <a:xfrm>
            <a:off x="1752480" y="60948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877760" y="2362320"/>
            <a:ext cx="11487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RBAL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D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965520" y="5560920"/>
            <a:ext cx="8198640" cy="916200"/>
            <a:chOff x="965520" y="5560920"/>
            <a:chExt cx="8198640" cy="916200"/>
          </a:xfrm>
        </p:grpSpPr>
        <p:sp>
          <p:nvSpPr>
            <p:cNvPr id="439" name=""/>
            <p:cNvSpPr/>
            <p:nvPr/>
          </p:nvSpPr>
          <p:spPr>
            <a:xfrm>
              <a:off x="3284640" y="5560920"/>
              <a:ext cx="1338120" cy="916200"/>
            </a:xfrm>
            <a:prstGeom prst="irregularSeal1">
              <a:avLst/>
            </a:prstGeom>
            <a:gradFill rotWithShape="0">
              <a:gsLst>
                <a:gs pos="0">
                  <a:srgbClr val="fefee7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65520" y="5743440"/>
              <a:ext cx="81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our rate of change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 ft/sec.  The negative value indicates you are falling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>
            <a:hlinkClick r:id="" action="ppaction://hlinkshowjump?jump=firstslide"/>
          </p:cNvPr>
          <p:cNvSpPr/>
          <p:nvPr/>
        </p:nvSpPr>
        <p:spPr>
          <a:xfrm>
            <a:off x="4915080" y="6299280"/>
            <a:ext cx="10411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4838760" y="1501920"/>
            <a:ext cx="3223440" cy="1139760"/>
            <a:chOff x="4838760" y="1501920"/>
            <a:chExt cx="3223440" cy="1139760"/>
          </a:xfrm>
        </p:grpSpPr>
        <p:sp>
          <p:nvSpPr>
            <p:cNvPr id="443" name=""/>
            <p:cNvSpPr/>
            <p:nvPr/>
          </p:nvSpPr>
          <p:spPr>
            <a:xfrm>
              <a:off x="4852800" y="2362320"/>
              <a:ext cx="1872360" cy="259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hange in Heigh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68400" y="1501920"/>
              <a:ext cx="169380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hange in he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38760" y="2641680"/>
              <a:ext cx="20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343080" y="2286000"/>
            <a:ext cx="1371600" cy="936720"/>
          </a:xfrm>
          <a:prstGeom prst="rect">
            <a:avLst/>
          </a:prstGeom>
          <a:ln w="0">
            <a:noFill/>
          </a:ln>
        </p:spPr>
      </p:pic>
      <p:grpSp>
        <p:nvGrpSpPr>
          <p:cNvPr id="447" name=""/>
          <p:cNvGrpSpPr/>
          <p:nvPr/>
        </p:nvGrpSpPr>
        <p:grpSpPr>
          <a:xfrm>
            <a:off x="1885320" y="2806560"/>
            <a:ext cx="1064880" cy="832680"/>
            <a:chOff x="1885320" y="2806560"/>
            <a:chExt cx="1064880" cy="832680"/>
          </a:xfrm>
        </p:grpSpPr>
        <p:sp>
          <p:nvSpPr>
            <p:cNvPr id="448" name=""/>
            <p:cNvSpPr/>
            <p:nvPr/>
          </p:nvSpPr>
          <p:spPr>
            <a:xfrm>
              <a:off x="1885320" y="3255840"/>
              <a:ext cx="10648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BEL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2311200" y="2806560"/>
              <a:ext cx="190080" cy="463320"/>
              <a:chOff x="2311200" y="2806560"/>
              <a:chExt cx="190080" cy="463320"/>
            </a:xfrm>
          </p:grpSpPr>
          <p:sp>
            <p:nvSpPr>
              <p:cNvPr id="450" name=""/>
              <p:cNvSpPr/>
              <p:nvPr/>
            </p:nvSpPr>
            <p:spPr>
              <a:xfrm>
                <a:off x="2368080" y="2806560"/>
                <a:ext cx="75600" cy="365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311200" y="3174840"/>
                <a:ext cx="190080" cy="9504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0"/>
                    </a:moveTo>
                    <a:lnTo>
                      <a:pt x="384" y="0"/>
                    </a:lnTo>
                    <a:lnTo>
                      <a:pt x="192" y="1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228600" y="2235240"/>
            <a:ext cx="1600200" cy="1790640"/>
            <a:chOff x="228600" y="2235240"/>
            <a:chExt cx="1600200" cy="1790640"/>
          </a:xfrm>
        </p:grpSpPr>
        <p:sp>
          <p:nvSpPr>
            <p:cNvPr id="453" name=""/>
            <p:cNvSpPr/>
            <p:nvPr/>
          </p:nvSpPr>
          <p:spPr>
            <a:xfrm>
              <a:off x="228600" y="2235240"/>
              <a:ext cx="1600200" cy="179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4" name="" descr=""/>
            <p:cNvPicPr/>
            <p:nvPr/>
          </p:nvPicPr>
          <p:blipFill>
            <a:blip r:embed="rId4"/>
            <a:stretch/>
          </p:blipFill>
          <p:spPr>
            <a:xfrm>
              <a:off x="343080" y="2971800"/>
              <a:ext cx="1371600" cy="93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5" name=""/>
          <p:cNvGrpSpPr/>
          <p:nvPr/>
        </p:nvGrpSpPr>
        <p:grpSpPr>
          <a:xfrm>
            <a:off x="228600" y="2857680"/>
            <a:ext cx="1600200" cy="2857320"/>
            <a:chOff x="228600" y="2857680"/>
            <a:chExt cx="1600200" cy="2857320"/>
          </a:xfrm>
        </p:grpSpPr>
        <p:sp>
          <p:nvSpPr>
            <p:cNvPr id="456" name=""/>
            <p:cNvSpPr/>
            <p:nvPr/>
          </p:nvSpPr>
          <p:spPr>
            <a:xfrm>
              <a:off x="228600" y="2857680"/>
              <a:ext cx="1600200" cy="285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7" name="" descr=""/>
            <p:cNvPicPr/>
            <p:nvPr/>
          </p:nvPicPr>
          <p:blipFill>
            <a:blip r:embed="rId5"/>
            <a:stretch/>
          </p:blipFill>
          <p:spPr>
            <a:xfrm>
              <a:off x="343080" y="4660920"/>
              <a:ext cx="1371600" cy="93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8" name=""/>
          <p:cNvGrpSpPr/>
          <p:nvPr/>
        </p:nvGrpSpPr>
        <p:grpSpPr>
          <a:xfrm>
            <a:off x="1690560" y="3695760"/>
            <a:ext cx="1546200" cy="1915920"/>
            <a:chOff x="1690560" y="3695760"/>
            <a:chExt cx="1546200" cy="1915920"/>
          </a:xfrm>
        </p:grpSpPr>
        <p:sp>
          <p:nvSpPr>
            <p:cNvPr id="459" name=""/>
            <p:cNvSpPr/>
            <p:nvPr/>
          </p:nvSpPr>
          <p:spPr>
            <a:xfrm>
              <a:off x="1690560" y="4938840"/>
              <a:ext cx="1546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GEBRAIC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D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311560" y="3695760"/>
              <a:ext cx="190440" cy="1238400"/>
              <a:chOff x="2311560" y="3695760"/>
              <a:chExt cx="190440" cy="1238400"/>
            </a:xfrm>
          </p:grpSpPr>
          <p:sp>
            <p:nvSpPr>
              <p:cNvPr id="461" name=""/>
              <p:cNvSpPr/>
              <p:nvPr/>
            </p:nvSpPr>
            <p:spPr>
              <a:xfrm>
                <a:off x="2368440" y="3695760"/>
                <a:ext cx="76320" cy="1143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311560" y="4838760"/>
                <a:ext cx="190440" cy="9540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0"/>
                    </a:moveTo>
                    <a:lnTo>
                      <a:pt x="384" y="0"/>
                    </a:lnTo>
                    <a:lnTo>
                      <a:pt x="192" y="1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359400" y="2671920"/>
            <a:ext cx="938160" cy="749160"/>
          </a:xfrm>
          <a:prstGeom prst="irregularSeal1">
            <a:avLst/>
          </a:prstGeom>
          <a:gradFill rotWithShape="0">
            <a:gsLst>
              <a:gs pos="0">
                <a:srgbClr val="ffff99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70480" y="846000"/>
            <a:ext cx="77731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ling at a rate of -ll ft/sec, find the time it will take you to fall 2500 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3909240" y="1522440"/>
            <a:ext cx="950400" cy="459720"/>
            <a:chOff x="3909240" y="1522440"/>
            <a:chExt cx="950400" cy="459720"/>
          </a:xfrm>
        </p:grpSpPr>
        <p:sp>
          <p:nvSpPr>
            <p:cNvPr id="466" name=""/>
            <p:cNvSpPr/>
            <p:nvPr/>
          </p:nvSpPr>
          <p:spPr>
            <a:xfrm>
              <a:off x="3909240" y="1584360"/>
              <a:ext cx="50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06840" y="15224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4867200" y="1440000"/>
            <a:ext cx="1052640" cy="291960"/>
            <a:chOff x="4867200" y="1440000"/>
            <a:chExt cx="1052640" cy="291960"/>
          </a:xfrm>
        </p:grpSpPr>
        <p:sp>
          <p:nvSpPr>
            <p:cNvPr id="469" name=""/>
            <p:cNvSpPr/>
            <p:nvPr/>
          </p:nvSpPr>
          <p:spPr>
            <a:xfrm>
              <a:off x="4928760" y="1440000"/>
              <a:ext cx="902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tanc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67200" y="1731960"/>
              <a:ext cx="10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5095800" y="1816200"/>
            <a:ext cx="507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714920" y="3184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879800" y="1770480"/>
            <a:ext cx="1080000" cy="1691280"/>
            <a:chOff x="4879800" y="1770480"/>
            <a:chExt cx="1080000" cy="1691280"/>
          </a:xfrm>
        </p:grpSpPr>
        <p:sp>
          <p:nvSpPr>
            <p:cNvPr id="474" name=""/>
            <p:cNvSpPr/>
            <p:nvPr/>
          </p:nvSpPr>
          <p:spPr>
            <a:xfrm>
              <a:off x="5101560" y="1770480"/>
              <a:ext cx="561600" cy="35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879800" y="3002040"/>
              <a:ext cx="1080000" cy="45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1 ft/s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438720" y="4508640"/>
            <a:ext cx="5322600" cy="915120"/>
            <a:chOff x="3438720" y="4508640"/>
            <a:chExt cx="5322600" cy="915120"/>
          </a:xfrm>
        </p:grpSpPr>
        <p:sp>
          <p:nvSpPr>
            <p:cNvPr id="477" name=""/>
            <p:cNvSpPr/>
            <p:nvPr/>
          </p:nvSpPr>
          <p:spPr>
            <a:xfrm>
              <a:off x="7007400" y="4508640"/>
              <a:ext cx="938160" cy="749160"/>
            </a:xfrm>
            <a:prstGeom prst="irregularSeal1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438720" y="4659480"/>
              <a:ext cx="5322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You will reach the ground about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27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seconds 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fter opening your parachute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3772080" y="1550880"/>
            <a:ext cx="685080" cy="1629720"/>
            <a:chOff x="3772080" y="1550880"/>
            <a:chExt cx="685080" cy="1629720"/>
          </a:xfrm>
        </p:grpSpPr>
        <p:sp>
          <p:nvSpPr>
            <p:cNvPr id="480" name=""/>
            <p:cNvSpPr/>
            <p:nvPr/>
          </p:nvSpPr>
          <p:spPr>
            <a:xfrm>
              <a:off x="3772080" y="1550880"/>
              <a:ext cx="685080" cy="35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72080" y="2827440"/>
              <a:ext cx="685080" cy="35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322200" y="201600"/>
            <a:ext cx="4429800" cy="460440"/>
            <a:chOff x="322200" y="201600"/>
            <a:chExt cx="4429800" cy="460440"/>
          </a:xfrm>
        </p:grpSpPr>
        <p:sp>
          <p:nvSpPr>
            <p:cNvPr id="483" name=""/>
            <p:cNvSpPr/>
            <p:nvPr/>
          </p:nvSpPr>
          <p:spPr>
            <a:xfrm>
              <a:off x="1699920" y="238320"/>
              <a:ext cx="30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lope as a Rate of Ch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4" name="" descr=""/>
            <p:cNvPicPr/>
            <p:nvPr/>
          </p:nvPicPr>
          <p:blipFill>
            <a:blip r:embed="rId1"/>
            <a:stretch/>
          </p:blipFill>
          <p:spPr>
            <a:xfrm>
              <a:off x="322200" y="20160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5" name=""/>
          <p:cNvSpPr/>
          <p:nvPr/>
        </p:nvSpPr>
        <p:spPr>
          <a:xfrm>
            <a:off x="1752480" y="60948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336600" y="2317680"/>
            <a:ext cx="2960640" cy="3152880"/>
          </a:xfrm>
          <a:prstGeom prst="rect">
            <a:avLst/>
          </a:prstGeom>
          <a:ln w="0">
            <a:noFill/>
          </a:ln>
          <a:effectLst>
            <a:outerShdw dist="71785" dir="8100000" blurRad="0" rotWithShape="0">
              <a:srgbClr val="b2b2b2"/>
            </a:outerShdw>
          </a:effectLst>
        </p:spPr>
      </p:pic>
      <p:sp>
        <p:nvSpPr>
          <p:cNvPr id="487" name="">
            <a:hlinkClick r:id="" action="ppaction://hlinkshowjump?jump=firstslide"/>
          </p:cNvPr>
          <p:cNvSpPr/>
          <p:nvPr/>
        </p:nvSpPr>
        <p:spPr>
          <a:xfrm>
            <a:off x="4915080" y="6299280"/>
            <a:ext cx="10411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4485960" y="1356120"/>
            <a:ext cx="1446480" cy="1886400"/>
            <a:chOff x="4485960" y="1356120"/>
            <a:chExt cx="1446480" cy="1886400"/>
          </a:xfrm>
        </p:grpSpPr>
        <p:grpSp>
          <p:nvGrpSpPr>
            <p:cNvPr id="489" name=""/>
            <p:cNvGrpSpPr/>
            <p:nvPr/>
          </p:nvGrpSpPr>
          <p:grpSpPr>
            <a:xfrm>
              <a:off x="4485960" y="1356120"/>
              <a:ext cx="1446480" cy="1886400"/>
              <a:chOff x="4485960" y="1356120"/>
              <a:chExt cx="1446480" cy="1886400"/>
            </a:xfrm>
          </p:grpSpPr>
          <p:sp>
            <p:nvSpPr>
              <p:cNvPr id="490" name=""/>
              <p:cNvSpPr/>
              <p:nvPr/>
            </p:nvSpPr>
            <p:spPr>
              <a:xfrm>
                <a:off x="4916520" y="1356120"/>
                <a:ext cx="1015920" cy="353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3bb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Distance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1" name=""/>
              <p:cNvGrpSpPr/>
              <p:nvPr/>
            </p:nvGrpSpPr>
            <p:grpSpPr>
              <a:xfrm>
                <a:off x="4485960" y="2466000"/>
                <a:ext cx="1398240" cy="776520"/>
                <a:chOff x="4485960" y="2466000"/>
                <a:chExt cx="1398240" cy="77652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4943160" y="2466000"/>
                  <a:ext cx="941040" cy="459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3bb7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5720" rIns="4572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500 f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485960" y="2782800"/>
                  <a:ext cx="35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>
              <a:off x="4876920" y="2946240"/>
              <a:ext cx="104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0" y="617868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496" name=""/>
          <p:cNvGrpSpPr/>
          <p:nvPr/>
        </p:nvGrpSpPr>
        <p:grpSpPr>
          <a:xfrm>
            <a:off x="6210360" y="2781360"/>
            <a:ext cx="1113840" cy="590400"/>
            <a:chOff x="6210360" y="2781360"/>
            <a:chExt cx="1113840" cy="590400"/>
          </a:xfrm>
        </p:grpSpPr>
        <p:sp>
          <p:nvSpPr>
            <p:cNvPr id="497" name=""/>
            <p:cNvSpPr/>
            <p:nvPr/>
          </p:nvSpPr>
          <p:spPr>
            <a:xfrm>
              <a:off x="6550920" y="2895480"/>
              <a:ext cx="773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27 s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8" name="" descr=""/>
            <p:cNvPicPr/>
            <p:nvPr/>
          </p:nvPicPr>
          <p:blipFill>
            <a:blip r:embed="rId4"/>
            <a:stretch/>
          </p:blipFill>
          <p:spPr>
            <a:xfrm>
              <a:off x="6210360" y="2781360"/>
              <a:ext cx="250920" cy="590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1T15:27:45Z</dcterms:created>
  <dc:creator>McDougal Littell</dc:creator>
  <dc:description/>
  <dc:language>en-US</dc:language>
  <cp:lastModifiedBy>y2k2pc</cp:lastModifiedBy>
  <cp:lastPrinted>1999-09-21T17:47:31Z</cp:lastPrinted>
  <dcterms:modified xsi:type="dcterms:W3CDTF">2000-04-03T19:08:41Z</dcterms:modified>
  <cp:revision>303</cp:revision>
  <dc:subject/>
  <dc:title>No Slide Title</dc:title>
</cp:coreProperties>
</file>